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89D-09C8-418D-869C-177E4C19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03C-D7F0-4126-A4C4-2B598CA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58D-E198-4A1C-8457-3889D7BE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7D0-54D2-42E5-8098-D43B018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764-2D09-4CA4-BCB6-BE592DF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AA0-AA8F-4805-9844-3E753AAE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81F-5A14-4D59-9206-64951837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D53-15D2-4307-85F2-5FFD7343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CB8-9A61-41F4-886A-64E1EFF3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D4-DEF0-4911-BD5D-E38F24C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F3E-B4B6-40C2-A708-8B46223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B4D6-4AC1-4CFD-90AE-ED47962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3C6-6B78-4ABA-9EF4-E3EE5F5C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eam Spor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play a team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team spor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have to do in order to be successful as a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1738440" cy="1758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14600" y="4572000"/>
            <a:ext cx="2438280" cy="1700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315200" y="4572000"/>
            <a:ext cx="1600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purpose of each of these i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200520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38280" cy="234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3392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tic W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ype of tissue is represented by each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200520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477120" y="2895480"/>
            <a:ext cx="2438280" cy="2341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733920" y="1981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tic W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thel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56386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563868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 / 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roup of different types of tissues that work together to perform a singl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group of organs that perform closely related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name some organs found in the human 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f the functions of these org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name the 11 organ systems found in the human 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main functions of each organ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352520" cy="1424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629400" y="228600"/>
            <a:ext cx="1374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different organ systems are organized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17524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0481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Dige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xcre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Endoc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Imm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962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895480"/>
            <a:ext cx="3429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erv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u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kel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irc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Respi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9680" y="1798560"/>
            <a:ext cx="8299440" cy="3103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400" y="491508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82800" y="491508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67840" y="4915080"/>
            <a:ext cx="13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8560" y="491508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54720" y="4915080"/>
            <a:ext cx="157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31840"/>
            <a:ext cx="63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2 Human Organ Systems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Part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4740480" cy="498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1360" y="3208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98320" y="320832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0000" y="32083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re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520" y="55879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5587920"/>
            <a:ext cx="174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46040" y="558792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ymphatic/Immune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31840"/>
            <a:ext cx="63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2 Human Organ Systems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Pa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1800" y="1600200"/>
            <a:ext cx="8782200" cy="3800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1520" y="322740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temperature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4572000"/>
            <a:ext cx="263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mostat senses temperature change and switches on he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78240" y="1752480"/>
            <a:ext cx="270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mostat senses temperature change and switches off heat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257640"/>
            <a:ext cx="371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om temperature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amples of Feedback Inhib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955960" y="341280"/>
            <a:ext cx="420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Examples of Feedback Inhib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ow is Your Body a Te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parts of your body must work together to keep you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one part does not function properly, then your body does not work a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take a look at the player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uman Body Systems</a:t>
            </a: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35.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vels of organization in a multicellular organism from smallest to larges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l→    tissue →     organ   →    organ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293840" cy="19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3505320"/>
            <a:ext cx="1752840" cy="140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267080" y="3630600"/>
            <a:ext cx="1447920" cy="93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Nervous system"/>
          <p:cNvPicPr/>
          <p:nvPr/>
        </p:nvPicPr>
        <p:blipFill>
          <a:blip r:embed="rId4"/>
          <a:stretch/>
        </p:blipFill>
        <p:spPr>
          <a:xfrm>
            <a:off x="6172200" y="3352680"/>
            <a:ext cx="28195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72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w let’s take a closer look at the play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2004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133720"/>
            <a:ext cx="5181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35287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structure and function in an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niquely suited to perform a parti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Cells"/>
          <p:cNvPicPr/>
          <p:nvPr/>
        </p:nvPicPr>
        <p:blipFill>
          <a:blip r:embed="rId1"/>
          <a:stretch/>
        </p:blipFill>
        <p:spPr>
          <a:xfrm>
            <a:off x="1828800" y="3581280"/>
            <a:ext cx="548640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cells that perform a singl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types of t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body to mo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ithel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lands and tissues that cover interior and exterior body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vides support for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mits nerve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69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24:49Z</dcterms:created>
  <dc:creator>bpalme</dc:creator>
  <dc:description/>
  <dc:language>en-US</dc:language>
  <cp:lastModifiedBy>Preferred Customer</cp:lastModifiedBy>
  <dcterms:modified xsi:type="dcterms:W3CDTF">2009-11-23T06:23:52Z</dcterms:modified>
  <cp:revision>22</cp:revision>
  <dc:subject/>
  <dc:title>What Is Science? Chapter 1.1</dc:title>
</cp:coreProperties>
</file>